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E20F-1C51-458D-9B7C-97777C0C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EC7-339D-4293-91D7-377F2091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7B2-D1E4-4B4E-BDB7-EBE9BEFE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03B-4198-4758-B776-8215DD57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2E92-5C57-4B40-B7C9-0800BDB9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357E-4B44-4810-9157-E590A5D2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D365-B39C-4225-A069-E1F3C061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D7F2-F4E5-42E7-B887-88F4681D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620D-9060-43FD-8EAD-012E8391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8EE3-CBF3-40B7-ABB2-79FB734D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7775-CAE3-406D-9052-DD2A3FB6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377-CE4C-4742-8DFF-39C6705C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FADB-8B4C-4DEA-B6E5-3FEE436B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6F97-BA32-4EB5-887F-00EA3820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EE2B-EDF6-4DFD-A9B0-EE4BE2EB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5678-5C4B-4C66-B2BD-EFC96AE5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C35F-4C73-432A-BD6C-331563FC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B8E7B-7F7A-44FF-AEB6-5F25FAC2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2D984-154E-4A25-B3A2-D3BB5D2C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E0E0-FD22-4E9D-89A6-1CC95379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9E55C-FB27-476F-B4DA-D98A3FD5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9613-217C-4559-B748-9F631E6F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5A3-023E-4717-8E82-7BC69FE0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AE77C-60CE-450F-BA5A-3F4308C3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0EAA5-2E9E-4162-AADD-BFBCB28D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00F7C-5FA4-4BA3-BC6C-EDB5021C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3FD9-A9CC-4ABC-87CD-06F7BEA0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D6852-B1D0-40A0-A2FD-1B7875C6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2D63-C49D-4A69-A54A-82C47DA5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4A2F4-2035-458D-A47F-DB06686E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9C8-5E59-4237-A6AE-2606D577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6CD-8C7E-41BC-9D12-AAF1FF96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6BF-D222-49E3-8B67-D49EA4AF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212-4719-42A4-94C8-6B02A9BC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29A-C8EB-472C-9407-463A1C3F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FE2-9A2C-4C4D-BA83-232A566C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945B-6F29-41B4-AB03-278BF4ED7DDC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6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8788800">
            <a:off x="-1126800" y="-271440"/>
            <a:ext cx="3121200" cy="1771560"/>
          </a:xfrm>
          <a:prstGeom prst="rect">
            <a:avLst/>
          </a:prstGeom>
          <a:ln w="0">
            <a:noFill/>
          </a:ln>
        </p:spPr>
      </p:pic>
      <p:pic>
        <p:nvPicPr>
          <p:cNvPr id="42" name="Afbeelding 9" descr="roodschild_los.jpg"/>
          <p:cNvPicPr/>
          <p:nvPr/>
        </p:nvPicPr>
        <p:blipFill>
          <a:blip r:embed="rId3"/>
          <a:srcRect l="0" t="26622" r="0" b="38371"/>
          <a:stretch/>
        </p:blipFill>
        <p:spPr>
          <a:xfrm rot="20985600">
            <a:off x="-1531440" y="3703680"/>
            <a:ext cx="11396520" cy="4967280"/>
          </a:xfrm>
          <a:prstGeom prst="rect">
            <a:avLst/>
          </a:prstGeom>
          <a:ln w="0">
            <a:noFill/>
          </a:ln>
        </p:spPr>
      </p:pic>
      <p:pic>
        <p:nvPicPr>
          <p:cNvPr id="43" name="Afbeelding 10" descr="hartenbeeldje_los (Large).png"/>
          <p:cNvPicPr/>
          <p:nvPr/>
        </p:nvPicPr>
        <p:blipFill>
          <a:blip r:embed="rId4"/>
          <a:stretch/>
        </p:blipFill>
        <p:spPr>
          <a:xfrm>
            <a:off x="7358040" y="4714920"/>
            <a:ext cx="1434960" cy="1785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44" name="Afbeelding 9" descr="HGJB-logo_support_wit.png"/>
          <p:cNvPicPr/>
          <p:nvPr/>
        </p:nvPicPr>
        <p:blipFill>
          <a:blip r:embed="rId5"/>
          <a:stretch/>
        </p:blipFill>
        <p:spPr>
          <a:xfrm>
            <a:off x="214200" y="142920"/>
            <a:ext cx="830520" cy="619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7B92-6D08-496F-8723-253F189C0A5B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9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20985600">
            <a:off x="-1138320" y="3725640"/>
            <a:ext cx="10985760" cy="4786200"/>
          </a:xfrm>
          <a:prstGeom prst="rect">
            <a:avLst/>
          </a:prstGeom>
          <a:ln w="0">
            <a:noFill/>
          </a:ln>
        </p:spPr>
      </p:pic>
      <p:pic>
        <p:nvPicPr>
          <p:cNvPr id="87" name="Afbeelding 10" descr="hartenbeeldje_los (Large).png"/>
          <p:cNvPicPr/>
          <p:nvPr/>
        </p:nvPicPr>
        <p:blipFill>
          <a:blip r:embed="rId3"/>
          <a:stretch/>
        </p:blipFill>
        <p:spPr>
          <a:xfrm>
            <a:off x="7000920" y="4357800"/>
            <a:ext cx="1754280" cy="2182680"/>
          </a:xfrm>
          <a:prstGeom prst="rect">
            <a:avLst/>
          </a:prstGeom>
          <a:ln w="0">
            <a:noFill/>
          </a:ln>
        </p:spPr>
      </p:pic>
      <p:sp>
        <p:nvSpPr>
          <p:cNvPr id="88" name="Tekstvak 8"/>
          <p:cNvSpPr/>
          <p:nvPr/>
        </p:nvSpPr>
        <p:spPr>
          <a:xfrm>
            <a:off x="428760" y="585792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6E82-9D1C-44E0-BA8C-617CA9807256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42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60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31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32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8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Als verschillen confronteren...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14880" y="2143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moeid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666880" y="1752480"/>
            <a:ext cx="6172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00040" y="1533600"/>
            <a:ext cx="633564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ctoren die meesp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ude n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rak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357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rm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Werkwoorden  (valkuilen)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neralis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ij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ij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sycholog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emp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Werkwoorden  (valkuilen)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343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5 - werkwo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92504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Hoe verder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571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ke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ef wat het met de ander en jou d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spreken wat verkeerd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geving sche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er bij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crete stappen voo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92504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Hoe verder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56800" y="1600200"/>
            <a:ext cx="7962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conflict niet te zwaar, probeer met humor te rela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d regelmatig voor je huwelijk, dat God het bederfwerend maa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je ná een conflict het gesprek niet durft te openen, probeer het dan via een br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92504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Hoe verder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571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sprak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geving voelt de pijn, maar koestert de pijn 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geving betekent ont-schuldi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ver-ontschuld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92504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Hoe verder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571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6: Karak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92504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Afronding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571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uisopd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 napr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90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91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92" name="Tekstvak 4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262626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143080" y="2857680"/>
            <a:ext cx="5214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Avond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Omgaan met verschi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680" y="269640"/>
            <a:ext cx="776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Doel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267920"/>
            <a:ext cx="81421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efde en trouw is een bijzonder 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 tussen man en vrouw aanvull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itiek geven en ontvangen is een ku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unt sámen winnen in een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ijden en vergeven werkt verzoen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85880" y="1415880"/>
            <a:ext cx="6858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reuken 3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ogen </a:t>
            </a:r>
            <a:r>
              <a:rPr b="1" lang="nl-NL" sz="3200" spc="-1" strike="noStrike">
                <a:solidFill>
                  <a:srgbClr val="c00000"/>
                </a:solidFill>
                <a:latin typeface="Arial"/>
              </a:rPr>
              <a:t>liefde en trouw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je nooit verlaten, wind ze om je hals, schrij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ze in je hart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Elkaar aanvull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43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9246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Elkaar aanvull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1520" y="1484280"/>
            <a:ext cx="769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1 - Galaten 5:13 -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AntitledDemi"/>
              </a:rPr>
              <a:t>Verschillen herkennen en benoemen</a:t>
            </a:r>
            <a:endParaRPr b="0" lang="en-US" sz="45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18920" y="3429000"/>
            <a:ext cx="583236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 elkaar aanvullen om het huwelijksleven te verr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547640" y="1484280"/>
            <a:ext cx="6120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erstand 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 Gevo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lossen↔ Betro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Informatie ↔ conta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AntitledDemi"/>
              </a:rPr>
              <a:t>Verschillen herkennen en benoemen</a:t>
            </a:r>
            <a:endParaRPr b="0" lang="en-US" sz="45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55640" y="1484280"/>
            <a:ext cx="691200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dracht 2 – waar zitten julli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erschille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dracht 3 – Noem dri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luspun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71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Als verschillen confronteren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3560" y="1410840"/>
            <a:ext cx="806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 een goed mo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aar kritiek niet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is de toon die de muziek maa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es actueel en concre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 de kritiek een wens beva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reek vanuit de ik-v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68360" y="1125360"/>
            <a:ext cx="633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4a: Kritiek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AntitledDemi"/>
              </a:rPr>
              <a:t>Als verschillen confronteren</a:t>
            </a:r>
            <a:endParaRPr b="0" lang="en-US" sz="45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000" y="1371240"/>
            <a:ext cx="8496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l je open voor kriti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 verduidelij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t het niet op als een persoonlijke afwijz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g waar je het wel of niet mee eens b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g wat je ermee kunt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68360" y="1125360"/>
            <a:ext cx="676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4b: Kritiek ontv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58:09Z</dcterms:created>
  <dc:creator>njansen</dc:creator>
  <dc:description/>
  <dc:language>en-US</dc:language>
  <cp:lastModifiedBy>Kees</cp:lastModifiedBy>
  <dcterms:modified xsi:type="dcterms:W3CDTF">2015-01-14T08:59:34Z</dcterms:modified>
  <cp:revision>44</cp:revision>
  <dc:subject/>
  <dc:title>Hart voor je huwelijk</dc:title>
</cp:coreProperties>
</file>