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F22-249D-47B1-8B8E-73ECB722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918-B450-4736-9392-EA45C48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A1A-DA93-4209-B5B1-7F480DD3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BC6-B82B-4D81-BDEC-DBF91F74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CB2F-AF6A-4C2D-BAE2-BADB1C01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5611-C96C-477F-8AFD-3954FCD3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B602-6AD1-4275-81CD-415189BE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CE2A-1441-4C54-8758-E16542A9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31FE-7A2D-4BA0-8E80-E12F9DA9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BCCA-9C98-4081-9C1B-11671303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957-A0D0-448C-8653-BDAE29D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3E8-C79D-4EF6-975C-3AA5919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F8A-7737-4B1C-A070-DFBF142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DA5E-1B0E-4F5D-85E4-5D81F76B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BEBC-6868-4066-BB59-384DE6D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E89-5A11-430F-AA18-12C9ED03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FE38-211A-45C4-B557-BA836A68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2013-3B0C-4BAF-A668-9894EDA6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C196-90A7-4062-9E5D-2432B6ED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606E-A9EA-445D-9236-E7570F8C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5329-ED49-46C7-924E-1BE98404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7011-47C0-466F-ADB1-67E5790E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CDC-A411-4A44-AE54-5A21D15E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49E3-710B-492C-A438-F276863B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DA3C-2CC5-4497-A128-67D94D00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58F7-ECEB-4E82-AE9D-474DDF6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5BEA-B738-43A8-8959-B4A7A72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F6CC-D2FE-431E-94E5-7D272D34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E455-EB6E-4288-8D6E-7F493431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8379-CA8D-46B3-AB7E-73939B37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30A-6EA7-44DB-BB8E-C5E8F23F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231-B7D1-4600-B839-8650D9B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3A8-ABC0-4D74-BDC7-A4B89DF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9E8-7C6B-4CA0-B5D9-05FC440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317-359A-4D7C-8B1B-D321E51B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89E-25A4-4D02-AC8C-DCD55BD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FFD1-5B39-4EB8-894B-4BC4335679BD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CB2-0593-4157-ABCC-B7E03EA735A1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3D3-DDB8-4839-81B8-3ADFA8AA3E16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elemmer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241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 – Tevre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 – Jouw bel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1992360000[1]"/>
          <p:cNvPicPr/>
          <p:nvPr/>
        </p:nvPicPr>
        <p:blipFill>
          <a:blip r:embed="rId1"/>
          <a:stretch/>
        </p:blipFill>
        <p:spPr>
          <a:xfrm>
            <a:off x="6929280" y="357120"/>
            <a:ext cx="1689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720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5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83840" y="148572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6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6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6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Samen inti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ualiteit is een gave om van te gen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ualiteit vraagt verantwoor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unt elkaar seksueel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imiteit (verder) ontwik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H)erkennen van belemme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Intimiteit is een gave van God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God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– Het Hoog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Intimiteit is een gave van God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6800" y="1424160"/>
            <a:ext cx="857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f kenm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zegeling van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tale over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clusief voor jullie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kom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44" name="Picture 2" descr="man-woman"/>
          <p:cNvPicPr/>
          <p:nvPr/>
        </p:nvPicPr>
        <p:blipFill>
          <a:blip r:embed="rId1"/>
          <a:srcRect l="1817" t="3292" r="2009" b="3557"/>
          <a:stretch/>
        </p:blipFill>
        <p:spPr>
          <a:xfrm>
            <a:off x="738360" y="1406520"/>
            <a:ext cx="67179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iep de 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intimi-)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d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v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MCj04082180000[1]"/>
          <p:cNvPicPr/>
          <p:nvPr/>
        </p:nvPicPr>
        <p:blipFill>
          <a:blip r:embed="rId1"/>
          <a:stretch/>
        </p:blipFill>
        <p:spPr>
          <a:xfrm>
            <a:off x="6929280" y="500040"/>
            <a:ext cx="1541520" cy="10969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5010120" y="1484280"/>
            <a:ext cx="380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mant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ri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Uitdag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484280"/>
            <a:ext cx="74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– gespreksonderwer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elemmering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14241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umatische erva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oï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ksversl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gatief zelf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chamelijke en psychische prob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MCj01992360000[1]"/>
          <p:cNvPicPr/>
          <p:nvPr/>
        </p:nvPicPr>
        <p:blipFill>
          <a:blip r:embed="rId1"/>
          <a:stretch/>
        </p:blipFill>
        <p:spPr>
          <a:xfrm>
            <a:off x="6929280" y="357120"/>
            <a:ext cx="1689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3:35:48Z</dcterms:modified>
  <cp:revision>58</cp:revision>
  <dc:subject/>
  <dc:title>Hart voor je huwelijk</dc:title>
</cp:coreProperties>
</file>