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947-A011-4D24-8B61-D44BDB98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909-2C5B-44A1-8839-7DD16D93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6A9-2E7D-45D8-B53E-7CE90941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FBF-D65B-4937-A95A-2CC1DD96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FFA9-FE94-44C2-A30D-A1BCC86F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6575-2384-465F-96DA-F983BCA0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0BCF-33C3-46D5-BED1-02593B4C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AF00-9BE0-486A-890D-19735DBF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FE98-D116-45F1-B6D5-8A344DF3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55AF-AC69-4A69-9D5E-3B1634B9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7D99-043A-42D5-A500-B3D8983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94C-664A-4A83-9194-2FB4CD08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1CE7-C0D1-4154-A6CB-1D1F5ED7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D648-B173-4DD1-BA20-7501A698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340-D04E-448B-8E75-06BE52B8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E700-49CA-499B-B8C8-E3C248DF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F24D-8836-49C9-B3E4-F1EBFD17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3FF5-704B-41A8-AA2C-31A3ADE1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215D-71B8-480D-AB7A-C0E1587E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0F3DD-783C-405A-8163-29262A01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3C1B1-9BE0-4321-BE33-358DA39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8B0E-DB36-499E-A200-DC962730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88A-0147-4910-B411-EBE515CB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C578-5588-4EAC-ABFE-3572383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5F48-BF04-4A91-BD38-801A24EC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A0A1-60C9-4B74-8515-45209B67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E57D-85F8-44CC-988C-EF0840F5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AF3C-48C9-4B5F-AD20-9365EE69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DF98-4396-4771-847A-E978F531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77AE-A47C-4B21-8CB0-53044001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C55-7F74-49E3-A127-08E4C63E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230-D7F5-448B-B85F-DEA5D7E9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446-9721-4CCF-AB50-446163E6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3F4-F2C2-4E81-8B80-57C74D7E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D3F-2A98-422B-912C-B5BAAEF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A20-CBB9-4C2D-81F9-BC063856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71D5-33AD-4953-B9BA-E700EE419091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3" name="Afbeelding 9" descr="HGJB-logo_support_wit.png"/>
          <p:cNvPicPr/>
          <p:nvPr/>
        </p:nvPicPr>
        <p:blipFill>
          <a:blip r:embed="rId4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B440-3F38-4D15-97AF-64190ACC73B0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804960" y="3580920"/>
            <a:ext cx="10985760" cy="478656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7" name="Tekstvak 11"/>
          <p:cNvSpPr/>
          <p:nvPr/>
        </p:nvSpPr>
        <p:spPr>
          <a:xfrm>
            <a:off x="57168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0A9D-D7FA-4358-AA30-A5C2CA2AE446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1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8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Communicatie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2 – maak open 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3 – jullie nive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Luis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ef luist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Valk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oelens neg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gatel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ust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ltes op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778280" y="1052640"/>
            <a:ext cx="375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b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gen verhaal ver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l oplossingen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7859880" cy="25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oo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inneringen/Ervaring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moe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a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778280" y="907920"/>
            <a:ext cx="375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oe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476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Valkuil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539640" y="1547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4760" y="442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Afrond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28400" y="155700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21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21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213" name="Tekstvak 4"/>
          <p:cNvSpPr/>
          <p:nvPr/>
        </p:nvSpPr>
        <p:spPr>
          <a:xfrm>
            <a:off x="1071720" y="5500800"/>
            <a:ext cx="74293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Communicatie in je rel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Afbeelding 6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137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38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62626"/>
                </a:solidFill>
                <a:latin typeface="AntitledDemi"/>
              </a:rPr>
              <a:t>Communicatie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4360" y="1430280"/>
            <a:ext cx="714528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efde als grond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atie in je re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is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kuilen en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9250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Liefde als grond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Korinthe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MPj04221490000[1]"/>
          <p:cNvPicPr/>
          <p:nvPr/>
        </p:nvPicPr>
        <p:blipFill>
          <a:blip r:embed="rId1"/>
          <a:stretch/>
        </p:blipFill>
        <p:spPr>
          <a:xfrm>
            <a:off x="5514840" y="2116080"/>
            <a:ext cx="2108160" cy="1400400"/>
          </a:xfrm>
          <a:prstGeom prst="rect">
            <a:avLst/>
          </a:prstGeom>
          <a:ln w="0">
            <a:noFill/>
          </a:ln>
        </p:spPr>
      </p:pic>
      <p:pic>
        <p:nvPicPr>
          <p:cNvPr id="145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Communicatie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en voorbeel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Communicatie in je re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38400"/>
            <a:ext cx="822960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gaat communica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an b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chter bij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3"/>
          <p:cNvSpPr/>
          <p:nvPr/>
        </p:nvSpPr>
        <p:spPr>
          <a:xfrm rot="10800000">
            <a:off x="533160" y="5257800"/>
            <a:ext cx="4267080" cy="990720"/>
          </a:xfrm>
          <a:custGeom>
            <a:avLst/>
            <a:gdLst>
              <a:gd name="textAreaLeft" fmla="*/ 559440 w 4267080"/>
              <a:gd name="textAreaRight" fmla="*/ 3707640 w 4267080"/>
              <a:gd name="textAreaTop" fmla="*/ 129960 h 990720"/>
              <a:gd name="textAreaBottom" fmla="*/ 8607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" y="21600"/>
                </a:lnTo>
                <a:lnTo>
                  <a:pt x="1953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952880" y="5334120"/>
            <a:ext cx="4419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ETJ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KALF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267080" y="4267080"/>
            <a:ext cx="556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EITEN EN GEBEURTEN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 rot="10800000">
            <a:off x="914040" y="4267080"/>
            <a:ext cx="3505320" cy="1067040"/>
          </a:xfrm>
          <a:custGeom>
            <a:avLst/>
            <a:gdLst>
              <a:gd name="textAreaLeft" fmla="*/ 501480 w 3505320"/>
              <a:gd name="textAreaRight" fmla="*/ 3003840 w 3505320"/>
              <a:gd name="textAreaTop" fmla="*/ 152640 h 1067040"/>
              <a:gd name="textAreaBottom" fmla="*/ 914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580" y="21600"/>
                </a:lnTo>
                <a:lnTo>
                  <a:pt x="1902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 rot="10800000">
            <a:off x="1295280" y="3276360"/>
            <a:ext cx="2743200" cy="1066680"/>
          </a:xfrm>
          <a:custGeom>
            <a:avLst/>
            <a:gdLst>
              <a:gd name="textAreaLeft" fmla="*/ 449280 w 2743200"/>
              <a:gd name="textAreaRight" fmla="*/ 2293920 w 2743200"/>
              <a:gd name="textAreaTop" fmla="*/ 174600 h 1066680"/>
              <a:gd name="textAreaBottom" fmla="*/ 8920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78" y="21600"/>
                </a:lnTo>
                <a:lnTo>
                  <a:pt x="181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809880" y="342900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INGEN EN IDEEË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10800000">
            <a:off x="1752480" y="2286000"/>
            <a:ext cx="1828800" cy="990720"/>
          </a:xfrm>
          <a:custGeom>
            <a:avLst/>
            <a:gdLst>
              <a:gd name="textAreaLeft" fmla="*/ 375120 w 1828800"/>
              <a:gd name="textAreaRight" fmla="*/ 1453680 w 1828800"/>
              <a:gd name="textAreaTop" fmla="*/ 203040 h 990720"/>
              <a:gd name="textAreaBottom" fmla="*/ 787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63" y="21600"/>
                </a:lnTo>
                <a:lnTo>
                  <a:pt x="1633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352680" y="2438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MOTIES D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971800" y="1447920"/>
            <a:ext cx="642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MOETING / INTIM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 rot="10800000">
            <a:off x="2209680" y="1218960"/>
            <a:ext cx="914400" cy="1066680"/>
          </a:xfrm>
          <a:custGeom>
            <a:avLst/>
            <a:gdLst>
              <a:gd name="textAreaLeft" fmla="*/ 304920 w 914400"/>
              <a:gd name="textAreaRight" fmla="*/ 609840 w 914400"/>
              <a:gd name="textAreaTop" fmla="*/ 355680 h 1066680"/>
              <a:gd name="textAreaBottom" fmla="*/ 7113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5720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Niveaus van communic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Afbeelding 12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4038480" y="3962520"/>
            <a:ext cx="4496040" cy="1523880"/>
          </a:xfrm>
          <a:prstGeom prst="rightArrow">
            <a:avLst>
              <a:gd name="adj1" fmla="val 50000"/>
              <a:gd name="adj2" fmla="val 7376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 rot="10800000">
            <a:off x="533160" y="5257800"/>
            <a:ext cx="4267080" cy="990720"/>
          </a:xfrm>
          <a:custGeom>
            <a:avLst/>
            <a:gdLst>
              <a:gd name="textAreaLeft" fmla="*/ 559440 w 4267080"/>
              <a:gd name="textAreaRight" fmla="*/ 3707640 w 4267080"/>
              <a:gd name="textAreaTop" fmla="*/ 129960 h 990720"/>
              <a:gd name="textAreaBottom" fmla="*/ 8607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" y="21600"/>
                </a:lnTo>
                <a:lnTo>
                  <a:pt x="1953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952880" y="5334120"/>
            <a:ext cx="4419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ETJ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KALFJ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10800000">
            <a:off x="2057040" y="4343400"/>
            <a:ext cx="3505320" cy="914400"/>
          </a:xfrm>
          <a:custGeom>
            <a:avLst/>
            <a:gdLst>
              <a:gd name="textAreaLeft" fmla="*/ 501480 w 3505320"/>
              <a:gd name="textAreaRight" fmla="*/ 3003840 w 3505320"/>
              <a:gd name="textAreaTop" fmla="*/ 130680 h 914400"/>
              <a:gd name="textAreaBottom" fmla="*/ 7837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580" y="21600"/>
                </a:lnTo>
                <a:lnTo>
                  <a:pt x="1902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67080" y="4441680"/>
            <a:ext cx="556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EITEN EN GEBEURTEN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 rot="10800000">
            <a:off x="1295280" y="3276360"/>
            <a:ext cx="2743200" cy="1066680"/>
          </a:xfrm>
          <a:custGeom>
            <a:avLst/>
            <a:gdLst>
              <a:gd name="textAreaLeft" fmla="*/ 449280 w 2743200"/>
              <a:gd name="textAreaRight" fmla="*/ 2293920 w 2743200"/>
              <a:gd name="textAreaTop" fmla="*/ 174600 h 1066680"/>
              <a:gd name="textAreaBottom" fmla="*/ 8920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78" y="21600"/>
                </a:lnTo>
                <a:lnTo>
                  <a:pt x="181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809880" y="342900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INGEN EN IDEEË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 rot="10800000">
            <a:off x="1752480" y="2286000"/>
            <a:ext cx="1828800" cy="990720"/>
          </a:xfrm>
          <a:custGeom>
            <a:avLst/>
            <a:gdLst>
              <a:gd name="textAreaLeft" fmla="*/ 375120 w 1828800"/>
              <a:gd name="textAreaRight" fmla="*/ 1453680 w 1828800"/>
              <a:gd name="textAreaTop" fmla="*/ 203040 h 990720"/>
              <a:gd name="textAreaBottom" fmla="*/ 787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63" y="21600"/>
                </a:lnTo>
                <a:lnTo>
                  <a:pt x="1633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352680" y="2438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MOTIES DE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971800" y="1447920"/>
            <a:ext cx="642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MOETING / INTIM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 rot="10800000">
            <a:off x="2209680" y="1218960"/>
            <a:ext cx="914400" cy="1066680"/>
          </a:xfrm>
          <a:custGeom>
            <a:avLst/>
            <a:gdLst>
              <a:gd name="textAreaLeft" fmla="*/ 304920 w 914400"/>
              <a:gd name="textAreaRight" fmla="*/ 609840 w 914400"/>
              <a:gd name="textAreaTop" fmla="*/ 355680 h 1066680"/>
              <a:gd name="textAreaBottom" fmla="*/ 7113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45720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Niveaus van communic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Afbeelding 1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Afbeelding 1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  <p:pic>
        <p:nvPicPr>
          <p:cNvPr id="178" name="Afbeelding 9" descr="roodschild_los.jpg"/>
          <p:cNvPicPr/>
          <p:nvPr/>
        </p:nvPicPr>
        <p:blipFill>
          <a:blip r:embed="rId2"/>
          <a:srcRect l="15423" t="40168" r="71628" b="56865"/>
          <a:stretch/>
        </p:blipFill>
        <p:spPr>
          <a:xfrm rot="20985600">
            <a:off x="402840" y="5973840"/>
            <a:ext cx="1363680" cy="6429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2"/>
          <p:cNvSpPr/>
          <p:nvPr/>
        </p:nvSpPr>
        <p:spPr>
          <a:xfrm rot="12935400">
            <a:off x="5172120" y="4581000"/>
            <a:ext cx="3733920" cy="1143000"/>
          </a:xfrm>
          <a:custGeom>
            <a:avLst/>
            <a:gdLst>
              <a:gd name="textAreaLeft" fmla="*/ 533880 w 3733920"/>
              <a:gd name="textAreaRight" fmla="*/ 3200040 w 3733920"/>
              <a:gd name="textAreaTop" fmla="*/ 163440 h 1143000"/>
              <a:gd name="textAreaBottom" fmla="*/ 9795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580" y="21600"/>
                </a:lnTo>
                <a:lnTo>
                  <a:pt x="1902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 rot="6330000">
            <a:off x="75600" y="5584680"/>
            <a:ext cx="990720" cy="1143000"/>
          </a:xfrm>
          <a:custGeom>
            <a:avLst/>
            <a:gdLst>
              <a:gd name="textAreaLeft" fmla="*/ 330120 w 990720"/>
              <a:gd name="textAreaRight" fmla="*/ 660600 w 990720"/>
              <a:gd name="textAreaTop" fmla="*/ 380880 h 1143000"/>
              <a:gd name="textAreaBottom" fmla="*/ 762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 rot="10800000">
            <a:off x="2336760" y="5486040"/>
            <a:ext cx="4648320" cy="1143000"/>
          </a:xfrm>
          <a:custGeom>
            <a:avLst/>
            <a:gdLst>
              <a:gd name="textAreaLeft" fmla="*/ 609480 w 4648320"/>
              <a:gd name="textAreaRight" fmla="*/ 4038840 w 4648320"/>
              <a:gd name="textAreaTop" fmla="*/ 149760 h 1143000"/>
              <a:gd name="textAreaBottom" fmla="*/ 9932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" y="21600"/>
                </a:lnTo>
                <a:lnTo>
                  <a:pt x="1953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011400" y="55166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KOETJES EN KALF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 rot="2085600">
            <a:off x="5076000" y="508428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FEIT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 rot="8967600">
            <a:off x="2987280" y="3715920"/>
            <a:ext cx="2819520" cy="1143000"/>
          </a:xfrm>
          <a:custGeom>
            <a:avLst/>
            <a:gdLst>
              <a:gd name="textAreaLeft" fmla="*/ 461880 w 2819520"/>
              <a:gd name="textAreaRight" fmla="*/ 2357640 w 2819520"/>
              <a:gd name="textAreaTop" fmla="*/ 187200 h 1143000"/>
              <a:gd name="textAreaBottom" fmla="*/ 955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78" y="21600"/>
                </a:lnTo>
                <a:lnTo>
                  <a:pt x="181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 rot="19755000">
            <a:off x="3132360" y="314136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MENINGEN EN IDEE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 rot="6963600">
            <a:off x="1166040" y="4962240"/>
            <a:ext cx="1905120" cy="1143000"/>
          </a:xfrm>
          <a:custGeom>
            <a:avLst/>
            <a:gdLst>
              <a:gd name="textAreaLeft" fmla="*/ 390960 w 1905120"/>
              <a:gd name="textAreaRight" fmla="*/ 1514160 w 1905120"/>
              <a:gd name="textAreaTop" fmla="*/ 234360 h 1143000"/>
              <a:gd name="textAreaBottom" fmla="*/ 9086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63" y="21600"/>
                </a:lnTo>
                <a:lnTo>
                  <a:pt x="1633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 rot="17626200">
            <a:off x="212760" y="317916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EMOTIES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 rot="17216400">
            <a:off x="-1589400" y="3110760"/>
            <a:ext cx="64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lack"/>
              </a:rPr>
              <a:t>ONTMOETING/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63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ntitledDemi"/>
              </a:rPr>
              <a:t>Niveaus van communic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dcterms:modified xsi:type="dcterms:W3CDTF">2015-01-14T18:03:04Z</dcterms:modified>
  <cp:revision>45</cp:revision>
  <dc:subject/>
  <dc:title>Hart voor je huwelijk</dc:title>
</cp:coreProperties>
</file>