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6808-E971-4032-8F85-4DC60F7DD6E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Vind je die bij elkaar? Jij mag er zijn! Jij bent uniek! Door God gewil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Kameraadschap…….fijn om dingen samen te doen. Elkaars maatjes; dingen samen delen. Denise en Ro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Duidelijkheid………..over verwachtingen en ieders plaats en rol in de relat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raat erover …….anders irritatie en teleurstell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Vind je die bij elkaar? Jij mag er zijn! Jij bent uniek! Door God gewil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Kameraadschap…….fijn om dingen samen te doen. Elkaars maatjes; dingen samen delen. Denise en Ro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Duidelijkheid………..over verwachtingen en ieders plaats en rol in de relat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raat erover …….anders irritatie en teleurstell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en relatie vraagt tijd………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en relatie vraagt tijd………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C96-85A0-4511-BC0F-75CF79BD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DC2-B5BF-4548-A86E-DB704196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7E4-F397-44B3-BA9D-0E35BD74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408-7518-4195-AE9C-54D1C544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01AC-1576-4B91-968B-836A09B7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4E2A-9535-4225-9F6A-F6B89816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1E68-36C4-4CFB-BD68-2A823B8C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8F59-D8E0-4221-898F-AE7E245A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7893-046A-4E52-8E16-A732DD1C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B734-4C8B-4CCB-9177-0A5D5C7B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D20E-4D0F-40E4-9D8E-5F3D1877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92F-35F6-44DE-9256-14C89AD7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2951-6A8E-4C49-86D4-07F60792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58E6-8AFF-48B1-BDDD-A575B818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B611-3D60-4F3F-9E27-A048A9A6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E1EA-94A5-49A8-B2A9-0283B4E2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A855-FB1D-41D3-B7B6-C1C2842F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132-48B6-41CD-872D-1E962857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C05-BDBD-4051-8599-462F9662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72A-BAE3-4698-9406-86535871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311-13A1-481B-9BA3-0D045010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11F-C5A5-4094-AA36-06B017CE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97D-D214-494A-A94D-4551B32C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062-44E1-4D88-8589-D8CE319B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62A6-5B4D-4ABA-AE59-17AA5882611B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9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20985600">
            <a:off x="-1138320" y="3725640"/>
            <a:ext cx="10985760" cy="4786200"/>
          </a:xfrm>
          <a:prstGeom prst="rect">
            <a:avLst/>
          </a:prstGeom>
          <a:ln w="0">
            <a:noFill/>
          </a:ln>
        </p:spPr>
      </p:pic>
      <p:pic>
        <p:nvPicPr>
          <p:cNvPr id="42" name="Afbeelding 10" descr="hartenbeeldje_los (Large).png"/>
          <p:cNvPicPr/>
          <p:nvPr/>
        </p:nvPicPr>
        <p:blipFill>
          <a:blip r:embed="rId3"/>
          <a:stretch/>
        </p:blipFill>
        <p:spPr>
          <a:xfrm>
            <a:off x="7000920" y="4357800"/>
            <a:ext cx="1754280" cy="2182680"/>
          </a:xfrm>
          <a:prstGeom prst="rect">
            <a:avLst/>
          </a:prstGeom>
          <a:ln w="0">
            <a:noFill/>
          </a:ln>
        </p:spPr>
      </p:pic>
      <p:sp>
        <p:nvSpPr>
          <p:cNvPr id="43" name="Tekstvak 11"/>
          <p:cNvSpPr/>
          <p:nvPr/>
        </p:nvSpPr>
        <p:spPr>
          <a:xfrm>
            <a:off x="428760" y="585792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B3DF-CD64-4925-961B-93A00D605C51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95" name="Tekstvak 8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 het beeld van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jden tegen gericht zijn op je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ijkwaardig, niet g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De plaats en taak van man en vr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t huwelijk is een touwtrekwedstrijd tussen twee ‘willen’ die beide even vastberaden zijn NIET te winnen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s er al sprake is van concurrentie dan is het in het dienen…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De plaats en taak van man en vr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400" y="1213920"/>
            <a:ext cx="8391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. Veilighei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6. Duid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. Beslotenhei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7. Overeenste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. Vrijhei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8. Seksuele voldo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Bevestig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9. Commun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Kameraadsch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Openheid na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. 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ond van tr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ttelijk, publie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 Gods aangez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. Besloten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, warm 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wetsbaar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ons s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. Vrij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tsp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plooi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lijkwaar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im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. Bevest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oof in de a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ig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ts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 Kameraa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iend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zelfde do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6. Duid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wachtingen he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pr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idelijkheid rol en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7. Overeenste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gezin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zelfde normen en w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143080" y="2857680"/>
            <a:ext cx="5214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5e2206"/>
                </a:solidFill>
                <a:latin typeface="AntitledDemi"/>
              </a:rPr>
              <a:t>Avond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5e2206"/>
                </a:solidFill>
                <a:latin typeface="AntitledDemi"/>
              </a:rPr>
              <a:t>Groeien in je rel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el 1"/>
          <p:cNvSpPr/>
          <p:nvPr/>
        </p:nvSpPr>
        <p:spPr>
          <a:xfrm>
            <a:off x="642960" y="1071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62626"/>
                </a:solidFill>
                <a:latin typeface="AntitledDemi"/>
              </a:rPr>
              <a:t>Hart voor je huwelijk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Afbeelding 6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8788800">
            <a:off x="-1126800" y="-271440"/>
            <a:ext cx="3121200" cy="177156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9" descr="HGJB-logo_support_wit.png"/>
          <p:cNvPicPr/>
          <p:nvPr/>
        </p:nvPicPr>
        <p:blipFill>
          <a:blip r:embed="rId2"/>
          <a:stretch/>
        </p:blipFill>
        <p:spPr>
          <a:xfrm>
            <a:off x="214200" y="142920"/>
            <a:ext cx="830520" cy="619200"/>
          </a:xfrm>
          <a:prstGeom prst="rect">
            <a:avLst/>
          </a:prstGeom>
          <a:ln w="0">
            <a:noFill/>
          </a:ln>
        </p:spPr>
      </p:pic>
      <p:pic>
        <p:nvPicPr>
          <p:cNvPr id="101" name="Afbeelding 9" descr="roodschild_los.jpg"/>
          <p:cNvPicPr/>
          <p:nvPr/>
        </p:nvPicPr>
        <p:blipFill>
          <a:blip r:embed="rId3"/>
          <a:srcRect l="0" t="34899" r="71657" b="54120"/>
          <a:stretch/>
        </p:blipFill>
        <p:spPr>
          <a:xfrm rot="20985600">
            <a:off x="-1166760" y="5565240"/>
            <a:ext cx="3114720" cy="1501920"/>
          </a:xfrm>
          <a:prstGeom prst="rect">
            <a:avLst/>
          </a:prstGeom>
          <a:ln w="0">
            <a:noFill/>
          </a:ln>
        </p:spPr>
      </p:pic>
      <p:pic>
        <p:nvPicPr>
          <p:cNvPr id="102" name="Afbeelding 5" descr="Logo HGJB transparant.png"/>
          <p:cNvPicPr/>
          <p:nvPr/>
        </p:nvPicPr>
        <p:blipFill>
          <a:blip r:embed="rId4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8. Seksuele voldo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im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den voldo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9. Commun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 ging het afgelopen we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naar elk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n wat je bezig hou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0. Openheid naar b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huwelijk delen met 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 voor 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50560" y="43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Bouwstenen voor een gelukkig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66009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2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is het met deze bouwstenen in jullie huwelij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alen van de lief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58435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. positieve woord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. cadeaus krij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. lichamelijk contac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. sam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 di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. Positieve wo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pli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moe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iendelijke 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derige 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alen van de lief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. Cadeaus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je ged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ef en eenvou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zelf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alen van de lief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. Lichamelijk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maakt voor aanr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behoef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de ander prettig vin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alen van de lief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. Sam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elkaar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 p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 be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 dinge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alen van de lief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 Di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ontaan dinge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dek wat de ander prettig vin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alen van de lief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59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Welk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400" y="785880"/>
            <a:ext cx="810396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ging het m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efenen in communicer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ef luister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uster gecommunicee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28760" y="11970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3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dek jullie moedertalen van de lief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alen van de lief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ijd voor elk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..om de romantiek/het leven in het huwelijk te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..om wederzijds begrip en waardering te verdi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..om regelmatig en zinvol te communic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 tegenslagen het hoofd te kunnen bi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ijd voor elk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73152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oriteiten 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d op numm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partner/gezin op numm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 en kerk op nummer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ijd voor elk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 aan huwelijks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samen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prioriteit aan jullie tijd s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erm jullie tijd s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ijd voor elk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situat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ijd voor elk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liefdesbr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valt je opnieuw op in de ander dat speciaal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vind je fijn in jullie relati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 je samen graag meer in zou willen groei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een bijzonder moment voor je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Tijd voor elk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dracht 5: Een liefdesbr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s en verwon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4760" y="44280"/>
            <a:ext cx="82184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Afrond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428400" y="1557000"/>
            <a:ext cx="75438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uisopd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Lees samen de bij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Bedenk een ding dat je kunt doen om de ander iets te geven in zijn of haar liefdestaal (en voer het u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Geef de ander je liefdesbrief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ntmo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42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213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214" name="Tekstvak 8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Avond 3 - Groeien in je rel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0040" y="1455840"/>
            <a:ext cx="733896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ats en taak van man en vro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stenen voor een gelukkig huw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len van de lief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 voor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59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Het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8400" y="785880"/>
            <a:ext cx="810396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Geen rustoord voor luie mensen, maar een systematisch programma van vrijwillige en ingrijpende zelfopoffering!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agt dus invest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59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Het huwel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8400" y="785880"/>
            <a:ext cx="810396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Gods eer tot je hoogste doel verheffen, waarbij de ander er wel bij vaart!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3920" y="164304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Kees en Marja\Documents\Samen\Hervormd Bergambacht\Hart voor je huwelijk\2012-09-24\Image.jpg"/>
          <p:cNvPicPr/>
          <p:nvPr/>
        </p:nvPicPr>
        <p:blipFill>
          <a:blip r:embed="rId1"/>
          <a:srcRect l="0" t="0" r="11198" b="1857"/>
          <a:stretch/>
        </p:blipFill>
        <p:spPr>
          <a:xfrm rot="21168000">
            <a:off x="1285920" y="556920"/>
            <a:ext cx="5929200" cy="5389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8" name="Afbeelding 5" descr="Logo HGJB transparant.png"/>
          <p:cNvPicPr/>
          <p:nvPr/>
        </p:nvPicPr>
        <p:blipFill>
          <a:blip r:embed="rId2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556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De plaats en taak van man en vrou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feze 5:2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!       Dit vind ik heel mo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?      Dit begrijp ik 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( )     Hier heb ik moeite m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De plaats en taak van man en vr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42600" y="1163520"/>
            <a:ext cx="44290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hoof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iefhebben als Chris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iden als Christu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030640" y="1071720"/>
            <a:ext cx="39704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r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ief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steu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pec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3571920"/>
            <a:ext cx="77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Samen: </a:t>
            </a: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ik u onder elkaar i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vrezen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n G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58:09Z</dcterms:created>
  <dc:creator>njansen</dc:creator>
  <dc:description/>
  <dc:language>en-US</dc:language>
  <cp:lastModifiedBy>Kees</cp:lastModifiedBy>
  <cp:lastPrinted>2012-09-24T08:24:15Z</cp:lastPrinted>
  <dcterms:modified xsi:type="dcterms:W3CDTF">2015-01-14T18:07:09Z</dcterms:modified>
  <cp:revision>67</cp:revision>
  <dc:subject/>
  <dc:title>Hart voor je huwelijk</dc:title>
</cp:coreProperties>
</file>