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tledDem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3F88-9ACB-4649-BA8B-56CEEA04471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God op nummer 1 – Huwelijk en gezin op no. 2 – Werk en kerk op no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Laten we voor de spiegel of beter……voor God gaan staan met de bede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Bede: Laat ons zien Heere of er bij mij een schadelijke weg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774D-C26B-4DED-A1B1-20B310CA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9AC4-26BD-4158-B987-1DBEAF35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173F-FAAA-4F06-85FC-C7EA5775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D475-7BA9-42F9-9CA6-3701206B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BCB7-BFFF-4E3A-A00F-AFBD4D77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0082-2593-4C6F-98AA-FE260F8A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EDB0-8A87-4615-973F-8D75C78B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CFA3-11F0-4BD4-A0E0-0E8389AA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7BE6-A523-4291-9F12-446E660A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5BD9-183D-4DCD-B0C4-C160685C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E3A9-79C5-4437-9C2B-53EC0BAF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629A-CD95-4253-AD5E-FC9D689B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7431-93E4-49AE-97BC-8FA3EC13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3BE5-F6A0-4B29-B930-3FACCB38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1A9F-BEE4-40F5-BF83-C7F52ECE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60CF-138A-4303-A27F-47011A7E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7C3E-21CD-497C-917F-D1D7B984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1A655-A8B8-42FA-ACFC-016F1AAA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E48FE-CF36-4FC9-922F-F09F3E8E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FDFFF-49DE-431E-A536-D0E4549D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2103D-8EDB-48BE-B22A-3A7E4D24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98407-FFBC-42B7-81BD-CDF09897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8794-1AAF-482B-B609-D66CC5FF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F41F7-76FD-46B8-84BB-0852AEDF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D49F7-E14A-490F-9F39-09CA2654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4BE85-4E86-47AF-B7B8-87AB0A71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0D7F1-0D06-4C5D-BCA8-D709B8A2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2C1A9-CD15-4A57-A862-03782100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2421B-FFB4-46B6-B9BE-E13A33E6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47867-7103-4E6B-A3ED-0FBEAFB6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38C8-1FC6-4F76-BA51-785731CB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8F7C-2845-4817-AD84-499937E4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BA25-B40E-4A65-AB49-74362EC5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D8CA-27B0-4295-9C7F-9F94A45B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4996-888F-4D5B-98DC-D197850B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3A3-452D-49A0-98E8-6A6561B3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tled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FEF6-96B7-449E-8CA9-BF182B296F27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6" descr="roodschild_los.jpg"/>
          <p:cNvPicPr/>
          <p:nvPr/>
        </p:nvPicPr>
        <p:blipFill>
          <a:blip r:embed="rId2"/>
          <a:srcRect l="0" t="26622" r="0" b="38371"/>
          <a:stretch/>
        </p:blipFill>
        <p:spPr>
          <a:xfrm rot="8788800">
            <a:off x="-1126800" y="-271440"/>
            <a:ext cx="3121200" cy="1771560"/>
          </a:xfrm>
          <a:prstGeom prst="rect">
            <a:avLst/>
          </a:prstGeom>
          <a:ln w="0">
            <a:noFill/>
          </a:ln>
        </p:spPr>
      </p:pic>
      <p:pic>
        <p:nvPicPr>
          <p:cNvPr id="42" name="Afbeelding 9" descr="roodschild_los.jpg"/>
          <p:cNvPicPr/>
          <p:nvPr/>
        </p:nvPicPr>
        <p:blipFill>
          <a:blip r:embed="rId3"/>
          <a:srcRect l="0" t="26622" r="0" b="38371"/>
          <a:stretch/>
        </p:blipFill>
        <p:spPr>
          <a:xfrm rot="20985600">
            <a:off x="-1531440" y="3703680"/>
            <a:ext cx="11396520" cy="4967280"/>
          </a:xfrm>
          <a:prstGeom prst="rect">
            <a:avLst/>
          </a:prstGeom>
          <a:ln w="0">
            <a:noFill/>
          </a:ln>
        </p:spPr>
      </p:pic>
      <p:pic>
        <p:nvPicPr>
          <p:cNvPr id="43" name="Afbeelding 10" descr="hartenbeeldje_los (Large).png"/>
          <p:cNvPicPr/>
          <p:nvPr/>
        </p:nvPicPr>
        <p:blipFill>
          <a:blip r:embed="rId4"/>
          <a:stretch/>
        </p:blipFill>
        <p:spPr>
          <a:xfrm>
            <a:off x="7358040" y="4714920"/>
            <a:ext cx="1434960" cy="1785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44" name="Afbeelding 9" descr="HGJB-logo_support_wit.png"/>
          <p:cNvPicPr/>
          <p:nvPr/>
        </p:nvPicPr>
        <p:blipFill>
          <a:blip r:embed="rId5"/>
          <a:stretch/>
        </p:blipFill>
        <p:spPr>
          <a:xfrm>
            <a:off x="214200" y="142920"/>
            <a:ext cx="830520" cy="619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tled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A9CD-344E-46D4-BAB4-605AD4F85223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Afbeelding 9" descr="roodschild_los.jpg"/>
          <p:cNvPicPr/>
          <p:nvPr/>
        </p:nvPicPr>
        <p:blipFill>
          <a:blip r:embed="rId2"/>
          <a:srcRect l="0" t="26622" r="0" b="38371"/>
          <a:stretch/>
        </p:blipFill>
        <p:spPr>
          <a:xfrm rot="20985600">
            <a:off x="-1138320" y="3725640"/>
            <a:ext cx="10985760" cy="4786200"/>
          </a:xfrm>
          <a:prstGeom prst="rect">
            <a:avLst/>
          </a:prstGeom>
          <a:ln w="0">
            <a:noFill/>
          </a:ln>
        </p:spPr>
      </p:pic>
      <p:pic>
        <p:nvPicPr>
          <p:cNvPr id="87" name="Afbeelding 10" descr="hartenbeeldje_los (Large).png"/>
          <p:cNvPicPr/>
          <p:nvPr/>
        </p:nvPicPr>
        <p:blipFill>
          <a:blip r:embed="rId3"/>
          <a:stretch/>
        </p:blipFill>
        <p:spPr>
          <a:xfrm>
            <a:off x="7000920" y="4357800"/>
            <a:ext cx="1754280" cy="2182680"/>
          </a:xfrm>
          <a:prstGeom prst="rect">
            <a:avLst/>
          </a:prstGeom>
          <a:ln w="0">
            <a:noFill/>
          </a:ln>
        </p:spPr>
      </p:pic>
      <p:sp>
        <p:nvSpPr>
          <p:cNvPr id="88" name="Tekstvak 8"/>
          <p:cNvSpPr/>
          <p:nvPr/>
        </p:nvSpPr>
        <p:spPr>
          <a:xfrm>
            <a:off x="428760" y="585792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ntitledDemi"/>
              </a:rPr>
              <a:t>Avond 6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tled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6F7E-A282-401A-A218-FC548F33FED6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ntitledDemi"/>
            </a:endParaRPr>
          </a:p>
        </p:txBody>
      </p:sp>
      <p:pic>
        <p:nvPicPr>
          <p:cNvPr id="138" name="Afbeelding 9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20985600">
            <a:off x="-1436760" y="388800"/>
            <a:ext cx="17388000" cy="7575840"/>
          </a:xfrm>
          <a:prstGeom prst="rect">
            <a:avLst/>
          </a:prstGeom>
          <a:ln w="0">
            <a:noFill/>
          </a:ln>
        </p:spPr>
      </p:pic>
      <p:pic>
        <p:nvPicPr>
          <p:cNvPr id="139" name="Afbeelding 10" descr="hartenbeeldje_los (Large).png"/>
          <p:cNvPicPr/>
          <p:nvPr/>
        </p:nvPicPr>
        <p:blipFill>
          <a:blip r:embed="rId2"/>
          <a:stretch/>
        </p:blipFill>
        <p:spPr>
          <a:xfrm>
            <a:off x="857160" y="-1285920"/>
            <a:ext cx="6143760" cy="7647120"/>
          </a:xfrm>
          <a:prstGeom prst="rect">
            <a:avLst/>
          </a:prstGeom>
          <a:ln w="0">
            <a:noFill/>
          </a:ln>
        </p:spPr>
      </p:pic>
      <p:sp>
        <p:nvSpPr>
          <p:cNvPr id="140" name="Tekstvak 4"/>
          <p:cNvSpPr/>
          <p:nvPr/>
        </p:nvSpPr>
        <p:spPr>
          <a:xfrm>
            <a:off x="1071720" y="5500800"/>
            <a:ext cx="74293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1" name="Afbeelding 5" descr="Logo HGJB transparant.png"/>
          <p:cNvPicPr/>
          <p:nvPr/>
        </p:nvPicPr>
        <p:blipFill>
          <a:blip r:embed="rId3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000000"/>
                </a:solidFill>
                <a:latin typeface="AntitledDemi"/>
              </a:rPr>
              <a:t>Als er kinderen zijn</a:t>
            </a:r>
            <a:endParaRPr b="0" lang="en-US" sz="49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84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erhaal a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vloed op re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latie met de ki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oven met ki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nderen en de k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17200" y="44280"/>
            <a:ext cx="821844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Afrond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pic>
        <p:nvPicPr>
          <p:cNvPr id="171" name="Afbeelding 3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83840" y="1485720"/>
            <a:ext cx="7543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uisopd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ntmo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ntitledDemi"/>
            </a:endParaRPr>
          </a:p>
        </p:txBody>
      </p:sp>
      <p:pic>
        <p:nvPicPr>
          <p:cNvPr id="174" name="Afbeelding 9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20985600">
            <a:off x="-1436760" y="388800"/>
            <a:ext cx="17388000" cy="7575840"/>
          </a:xfrm>
          <a:prstGeom prst="rect">
            <a:avLst/>
          </a:prstGeom>
          <a:ln w="0">
            <a:noFill/>
          </a:ln>
        </p:spPr>
      </p:pic>
      <p:pic>
        <p:nvPicPr>
          <p:cNvPr id="175" name="Afbeelding 10" descr="hartenbeeldje_los (Large).png"/>
          <p:cNvPicPr/>
          <p:nvPr/>
        </p:nvPicPr>
        <p:blipFill>
          <a:blip r:embed="rId2"/>
          <a:stretch/>
        </p:blipFill>
        <p:spPr>
          <a:xfrm>
            <a:off x="857160" y="-1285920"/>
            <a:ext cx="6143760" cy="7647120"/>
          </a:xfrm>
          <a:prstGeom prst="rect">
            <a:avLst/>
          </a:prstGeom>
          <a:ln w="0">
            <a:noFill/>
          </a:ln>
        </p:spPr>
      </p:pic>
      <p:sp>
        <p:nvSpPr>
          <p:cNvPr id="176" name="Tekstvak 4"/>
          <p:cNvSpPr/>
          <p:nvPr/>
        </p:nvSpPr>
        <p:spPr>
          <a:xfrm>
            <a:off x="1071720" y="5500800"/>
            <a:ext cx="74293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7" name="Afbeelding 5" descr="Logo HGJB transparant.png"/>
          <p:cNvPicPr/>
          <p:nvPr/>
        </p:nvPicPr>
        <p:blipFill>
          <a:blip r:embed="rId3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296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262626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143080" y="2857680"/>
            <a:ext cx="5214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5e2206"/>
                </a:solidFill>
                <a:latin typeface="AntitledDemi"/>
              </a:rPr>
              <a:t>Avond 6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5e2206"/>
                </a:solidFill>
                <a:latin typeface="AntitledDemi"/>
              </a:rPr>
              <a:t>Samen geloven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4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Doelen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341360"/>
            <a:ext cx="7194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Hoe was het vroeger thui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Hoe belangrijk is samen gelove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eer tijd samen voor Go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eedoen in de christelijke gemeen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000000"/>
                </a:solidFill>
                <a:latin typeface="AntitledDemi"/>
              </a:rPr>
              <a:t>Samen bijbellezen</a:t>
            </a:r>
            <a:endParaRPr b="0" lang="en-US" sz="49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lp van G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stelijk wel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 voor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e bijbelgedeel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000000"/>
                </a:solidFill>
                <a:latin typeface="AntitledDemi"/>
              </a:rPr>
              <a:t>Samen bijbellezen</a:t>
            </a:r>
            <a:endParaRPr b="0" lang="en-US" sz="49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84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1 – Vragen stellen aan de Bijb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000000"/>
                </a:solidFill>
                <a:latin typeface="AntitledDemi"/>
              </a:rPr>
              <a:t>Samen bijbellezen</a:t>
            </a:r>
            <a:endParaRPr b="0" lang="en-US" sz="49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84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000000"/>
                </a:solidFill>
                <a:latin typeface="AntitledDemi"/>
              </a:rPr>
              <a:t>Samen bidden</a:t>
            </a:r>
            <a:endParaRPr b="0" lang="en-US" sz="49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84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000000"/>
                </a:solidFill>
                <a:latin typeface="AntitledDemi"/>
              </a:rPr>
              <a:t>Gewoonten thuis </a:t>
            </a:r>
            <a:endParaRPr b="0" lang="en-US" sz="49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11864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MCj03560370000[1]"/>
          <p:cNvPicPr/>
          <p:nvPr/>
        </p:nvPicPr>
        <p:blipFill>
          <a:blip r:embed="rId1"/>
          <a:stretch/>
        </p:blipFill>
        <p:spPr>
          <a:xfrm>
            <a:off x="7643880" y="571680"/>
            <a:ext cx="933480" cy="904680"/>
          </a:xfrm>
          <a:prstGeom prst="rect">
            <a:avLst/>
          </a:prstGeom>
          <a:ln w="0">
            <a:noFill/>
          </a:ln>
        </p:spPr>
      </p:pic>
      <p:pic>
        <p:nvPicPr>
          <p:cNvPr id="163" name="Afbeelding 5" descr="Logo HGJB transparant.png"/>
          <p:cNvPicPr/>
          <p:nvPr/>
        </p:nvPicPr>
        <p:blipFill>
          <a:blip r:embed="rId2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000000"/>
                </a:solidFill>
                <a:latin typeface="AntitledDemi"/>
              </a:rPr>
              <a:t>Samen in de kerk</a:t>
            </a:r>
            <a:endParaRPr b="0" lang="en-US" sz="49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84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eving gemeen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j zijn de k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g en hart voor elk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angrijk voor je huwe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en hui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getuige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8:58:09Z</dcterms:created>
  <dc:creator>njansen</dc:creator>
  <dc:description/>
  <dc:language>en-US</dc:language>
  <cp:lastModifiedBy>Kees</cp:lastModifiedBy>
  <dcterms:modified xsi:type="dcterms:W3CDTF">2015-01-14T17:45:46Z</dcterms:modified>
  <cp:revision>43</cp:revision>
  <dc:subject/>
  <dc:title>Hart voor je huwelijk</dc:title>
</cp:coreProperties>
</file>