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59B3-E739-4685-B3F3-C9878548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8460-D9A9-4438-8A82-8459922C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C898-3EAF-4019-92A7-B4FD7BD8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5884-2FBF-4B45-81F4-6A82E68A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0594-FA59-4D04-BDB4-9BEBEAD2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2108-4A5D-4E71-83AF-68442203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3B7F-09CD-4CB6-A2D7-F276CB39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7184-E644-4F15-B219-3C6B1EE3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B7B5-ECD5-47C6-A727-7D25E374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5692-3B1D-4AA4-B852-AE74A634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1BE6-F5B1-4DD1-8996-08AB683F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4F9A-0BEA-4C61-9734-FBA93809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2633-B3A3-4B08-A0B3-D441EDBA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6868-E3E9-451A-9C33-2919C578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8B7E-590A-4D9B-9BB4-D53A6F63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2D81-82AD-4736-BA5E-1D40E58D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9E33-0CAB-4136-8458-B4BCF533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15F9A-9FE0-4821-AE34-C2D4BAFB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5EBD7-7FC3-42B1-88A8-68FBC191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DB783-161E-40E6-A7A9-9AE90824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CAE69-799B-401A-88A8-C36FFE2B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35CCF-F9F5-4F37-93ED-02AFA6FB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7922-2F7F-4BEA-A2F2-8CC76636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1819B-0F4F-4D04-A3A8-D6285605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EA015-372C-4665-B54C-E4E0A11E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388BA-19CF-460E-9D18-88929E46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209FA-5DB6-4D92-A5FF-3471AFCE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742B0-5810-4C09-A982-000A3072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7E226-CC45-4908-800F-440DE21E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E4D05-D824-4E8F-9627-42B3376D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2163-11CA-4B7F-93EE-D991913A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3E1A-DA69-47A5-907B-FD9E4F20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CFAF-6DAF-4298-89AF-9D14F568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2C90-FC97-4507-9771-50C28889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6493-6A3B-4CB5-BB13-62644AED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4590-FF35-4CB3-BEC9-8208C035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itledDem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3D72-8DEA-495B-9EEF-FA8A32C79EE3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6" descr="roodschild_los.jpg"/>
          <p:cNvPicPr/>
          <p:nvPr/>
        </p:nvPicPr>
        <p:blipFill>
          <a:blip r:embed="rId2"/>
          <a:srcRect l="0" t="26622" r="0" b="38371"/>
          <a:stretch/>
        </p:blipFill>
        <p:spPr>
          <a:xfrm rot="8788800">
            <a:off x="-1126800" y="-271440"/>
            <a:ext cx="3121200" cy="1771560"/>
          </a:xfrm>
          <a:prstGeom prst="rect">
            <a:avLst/>
          </a:prstGeom>
          <a:ln w="0">
            <a:noFill/>
          </a:ln>
        </p:spPr>
      </p:pic>
      <p:pic>
        <p:nvPicPr>
          <p:cNvPr id="42" name="Afbeelding 9" descr="roodschild_los.jpg"/>
          <p:cNvPicPr/>
          <p:nvPr/>
        </p:nvPicPr>
        <p:blipFill>
          <a:blip r:embed="rId3"/>
          <a:srcRect l="0" t="26622" r="0" b="38371"/>
          <a:stretch/>
        </p:blipFill>
        <p:spPr>
          <a:xfrm rot="20985600">
            <a:off x="-1531440" y="3703680"/>
            <a:ext cx="11396520" cy="4967280"/>
          </a:xfrm>
          <a:prstGeom prst="rect">
            <a:avLst/>
          </a:prstGeom>
          <a:ln w="0">
            <a:noFill/>
          </a:ln>
        </p:spPr>
      </p:pic>
      <p:pic>
        <p:nvPicPr>
          <p:cNvPr id="43" name="Afbeelding 10" descr="hartenbeeldje_los (Large).png"/>
          <p:cNvPicPr/>
          <p:nvPr/>
        </p:nvPicPr>
        <p:blipFill>
          <a:blip r:embed="rId4"/>
          <a:stretch/>
        </p:blipFill>
        <p:spPr>
          <a:xfrm>
            <a:off x="7358040" y="4714920"/>
            <a:ext cx="1434960" cy="1785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44" name="Afbeelding 9" descr="HGJB-logo_support_wit.png"/>
          <p:cNvPicPr/>
          <p:nvPr/>
        </p:nvPicPr>
        <p:blipFill>
          <a:blip r:embed="rId5"/>
          <a:stretch/>
        </p:blipFill>
        <p:spPr>
          <a:xfrm>
            <a:off x="214200" y="142920"/>
            <a:ext cx="830520" cy="619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itledDem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7D47-CF71-40DC-8A36-B1517807A24A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Afbeelding 9" descr="roodschild_los.jpg"/>
          <p:cNvPicPr/>
          <p:nvPr/>
        </p:nvPicPr>
        <p:blipFill>
          <a:blip r:embed="rId2"/>
          <a:srcRect l="0" t="26622" r="0" b="38371"/>
          <a:stretch/>
        </p:blipFill>
        <p:spPr>
          <a:xfrm rot="20985600">
            <a:off x="-1138320" y="3725640"/>
            <a:ext cx="10985760" cy="4786200"/>
          </a:xfrm>
          <a:prstGeom prst="rect">
            <a:avLst/>
          </a:prstGeom>
          <a:ln w="0">
            <a:noFill/>
          </a:ln>
        </p:spPr>
      </p:pic>
      <p:pic>
        <p:nvPicPr>
          <p:cNvPr id="87" name="Afbeelding 10" descr="hartenbeeldje_los (Large).png"/>
          <p:cNvPicPr/>
          <p:nvPr/>
        </p:nvPicPr>
        <p:blipFill>
          <a:blip r:embed="rId3"/>
          <a:stretch/>
        </p:blipFill>
        <p:spPr>
          <a:xfrm>
            <a:off x="7000920" y="4357800"/>
            <a:ext cx="1754280" cy="2182680"/>
          </a:xfrm>
          <a:prstGeom prst="rect">
            <a:avLst/>
          </a:prstGeom>
          <a:ln w="0">
            <a:noFill/>
          </a:ln>
        </p:spPr>
      </p:pic>
      <p:sp>
        <p:nvSpPr>
          <p:cNvPr id="88" name="Tekstvak 8"/>
          <p:cNvSpPr/>
          <p:nvPr/>
        </p:nvSpPr>
        <p:spPr>
          <a:xfrm>
            <a:off x="428760" y="595800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tledDemi"/>
              </a:rPr>
              <a:t>Avond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itledDem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A3AE-E109-4003-81C6-E7B3EB8C48DB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424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6000" spc="-1" strike="noStrike">
              <a:solidFill>
                <a:srgbClr val="000000"/>
              </a:solidFill>
              <a:latin typeface="AntitledDemi"/>
            </a:endParaRPr>
          </a:p>
        </p:txBody>
      </p:sp>
      <p:pic>
        <p:nvPicPr>
          <p:cNvPr id="131" name="Afbeelding 9" descr="roodschild_los.jpg"/>
          <p:cNvPicPr/>
          <p:nvPr/>
        </p:nvPicPr>
        <p:blipFill>
          <a:blip r:embed="rId1"/>
          <a:srcRect l="0" t="26622" r="0" b="38371"/>
          <a:stretch/>
        </p:blipFill>
        <p:spPr>
          <a:xfrm rot="20985600">
            <a:off x="-1436760" y="388800"/>
            <a:ext cx="17388000" cy="7575840"/>
          </a:xfrm>
          <a:prstGeom prst="rect">
            <a:avLst/>
          </a:prstGeom>
          <a:ln w="0">
            <a:noFill/>
          </a:ln>
        </p:spPr>
      </p:pic>
      <p:pic>
        <p:nvPicPr>
          <p:cNvPr id="132" name="Afbeelding 10" descr="hartenbeeldje_los (Large).png"/>
          <p:cNvPicPr/>
          <p:nvPr/>
        </p:nvPicPr>
        <p:blipFill>
          <a:blip r:embed="rId2"/>
          <a:stretch/>
        </p:blipFill>
        <p:spPr>
          <a:xfrm>
            <a:off x="857160" y="-1285920"/>
            <a:ext cx="6143760" cy="7647120"/>
          </a:xfrm>
          <a:prstGeom prst="rect">
            <a:avLst/>
          </a:prstGeom>
          <a:ln w="0">
            <a:noFill/>
          </a:ln>
        </p:spPr>
      </p:pic>
      <p:sp>
        <p:nvSpPr>
          <p:cNvPr id="133" name="Tekstvak 8"/>
          <p:cNvSpPr/>
          <p:nvPr/>
        </p:nvSpPr>
        <p:spPr>
          <a:xfrm>
            <a:off x="395280" y="5084640"/>
            <a:ext cx="86407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Afbeelding 5" descr="Logo HGJB transparant.png"/>
          <p:cNvPicPr/>
          <p:nvPr/>
        </p:nvPicPr>
        <p:blipFill>
          <a:blip r:embed="rId3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AntitledDemi"/>
              </a:rPr>
              <a:t>En nu de praktijk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99680" y="15717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Zonde verstoort het gel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och is er h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Verschillen zijn mo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Meer dan verlief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Contract versus ver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Waarom ben je getrouw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MCj04040930000[1]"/>
          <p:cNvPicPr/>
          <p:nvPr/>
        </p:nvPicPr>
        <p:blipFill>
          <a:blip r:embed="rId1"/>
          <a:stretch/>
        </p:blipFill>
        <p:spPr>
          <a:xfrm>
            <a:off x="6858000" y="857160"/>
            <a:ext cx="1079640" cy="1447920"/>
          </a:xfrm>
          <a:prstGeom prst="rect">
            <a:avLst/>
          </a:prstGeom>
          <a:ln w="0">
            <a:noFill/>
          </a:ln>
        </p:spPr>
      </p:pic>
      <p:sp>
        <p:nvSpPr>
          <p:cNvPr id="169" name="Tekstvak 4"/>
          <p:cNvSpPr/>
          <p:nvPr/>
        </p:nvSpPr>
        <p:spPr>
          <a:xfrm>
            <a:off x="428760" y="595800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tledDemi"/>
              </a:rPr>
              <a:t>Avond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Afbeelding 5" descr="Logo HGJB transparant.png"/>
          <p:cNvPicPr/>
          <p:nvPr/>
        </p:nvPicPr>
        <p:blipFill>
          <a:blip r:embed="rId2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AntitledDemi"/>
              </a:rPr>
              <a:t>Jij en je partner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99680" y="15717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pdrach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kstvak 3"/>
          <p:cNvSpPr/>
          <p:nvPr/>
        </p:nvSpPr>
        <p:spPr>
          <a:xfrm>
            <a:off x="428760" y="595800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tledDemi"/>
              </a:rPr>
              <a:t>Avond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Afbeelding 4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AntitledDemi"/>
              </a:rPr>
              <a:t>Afronding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557000"/>
            <a:ext cx="7543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uisopd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ntmo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kstvak 4"/>
          <p:cNvSpPr/>
          <p:nvPr/>
        </p:nvSpPr>
        <p:spPr>
          <a:xfrm>
            <a:off x="428760" y="595800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tledDemi"/>
              </a:rPr>
              <a:t>Avond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1424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6000" spc="-1" strike="noStrike">
              <a:solidFill>
                <a:srgbClr val="000000"/>
              </a:solidFill>
              <a:latin typeface="AntitledDemi"/>
            </a:endParaRPr>
          </a:p>
        </p:txBody>
      </p:sp>
      <p:pic>
        <p:nvPicPr>
          <p:cNvPr id="180" name="Afbeelding 9" descr="roodschild_los.jpg"/>
          <p:cNvPicPr/>
          <p:nvPr/>
        </p:nvPicPr>
        <p:blipFill>
          <a:blip r:embed="rId1"/>
          <a:srcRect l="0" t="26622" r="0" b="38371"/>
          <a:stretch/>
        </p:blipFill>
        <p:spPr>
          <a:xfrm rot="20985600">
            <a:off x="-1436760" y="388800"/>
            <a:ext cx="17388000" cy="7575840"/>
          </a:xfrm>
          <a:prstGeom prst="rect">
            <a:avLst/>
          </a:prstGeom>
          <a:ln w="0">
            <a:noFill/>
          </a:ln>
        </p:spPr>
      </p:pic>
      <p:pic>
        <p:nvPicPr>
          <p:cNvPr id="181" name="Afbeelding 10" descr="hartenbeeldje_los (Large).png"/>
          <p:cNvPicPr/>
          <p:nvPr/>
        </p:nvPicPr>
        <p:blipFill>
          <a:blip r:embed="rId2"/>
          <a:stretch/>
        </p:blipFill>
        <p:spPr>
          <a:xfrm>
            <a:off x="857160" y="-1285920"/>
            <a:ext cx="6143760" cy="7647120"/>
          </a:xfrm>
          <a:prstGeom prst="rect">
            <a:avLst/>
          </a:prstGeom>
          <a:ln w="0">
            <a:noFill/>
          </a:ln>
        </p:spPr>
      </p:pic>
      <p:sp>
        <p:nvSpPr>
          <p:cNvPr id="182" name="Tekstvak 8"/>
          <p:cNvSpPr/>
          <p:nvPr/>
        </p:nvSpPr>
        <p:spPr>
          <a:xfrm>
            <a:off x="395280" y="5084640"/>
            <a:ext cx="86407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ntitledDemi"/>
              </a:rPr>
              <a:t>Hart voor je huwelij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Afbeelding 5" descr="Logo HGJB transparant.png"/>
          <p:cNvPicPr/>
          <p:nvPr/>
        </p:nvPicPr>
        <p:blipFill>
          <a:blip r:embed="rId3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81388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62626"/>
                </a:solidFill>
                <a:latin typeface="AntitledDemi"/>
              </a:rPr>
              <a:t>Hart voor je huwelijk – wat?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42960" y="1428840"/>
            <a:ext cx="8250120" cy="40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Waar gaan we voor? </a:t>
            </a:r>
            <a:r>
              <a:rPr b="0" lang="nl-NL" sz="2000" spc="-1" strike="noStrike">
                <a:solidFill>
                  <a:srgbClr val="262626"/>
                </a:solidFill>
                <a:latin typeface="Arial"/>
              </a:rPr>
              <a:t>(doel curs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Menukaart  </a:t>
            </a:r>
            <a:r>
              <a:rPr b="0" lang="nl-NL" sz="2000" spc="-1" strike="noStrike">
                <a:solidFill>
                  <a:srgbClr val="262626"/>
                </a:solidFill>
                <a:latin typeface="Arial"/>
              </a:rPr>
              <a:t>(onderwerpen curs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Arial"/>
              </a:rPr>
              <a:t>Terug naar de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Arial"/>
              </a:rPr>
              <a:t>Communicatie in je rel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Arial"/>
              </a:rPr>
              <a:t>Groeien in je rel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Arial"/>
              </a:rPr>
              <a:t>Omgaan met verschi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Arial"/>
              </a:rPr>
              <a:t>Samen inti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Arial"/>
              </a:rPr>
              <a:t>Samen gel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Afbeelding 3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81388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62626"/>
                </a:solidFill>
                <a:latin typeface="AntitledDemi"/>
              </a:rPr>
              <a:t>Hart voor je huwelijk – hoe?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642960" y="1428840"/>
            <a:ext cx="8250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Inspiratie </a:t>
            </a:r>
            <a:r>
              <a:rPr b="0" lang="nl-NL" sz="2000" spc="-1" strike="noStrike">
                <a:solidFill>
                  <a:srgbClr val="262626"/>
                </a:solidFill>
                <a:latin typeface="Arial"/>
              </a:rPr>
              <a:t>(met elkaar de Bijbel op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Serveren in porties </a:t>
            </a:r>
            <a:r>
              <a:rPr b="0" lang="nl-NL" sz="2000" spc="-1" strike="noStrike">
                <a:solidFill>
                  <a:srgbClr val="262626"/>
                </a:solidFill>
                <a:latin typeface="Arial"/>
              </a:rPr>
              <a:t>(aanreiken onderwerpen + instruct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Tips van de zaak </a:t>
            </a:r>
            <a:r>
              <a:rPr b="0" lang="nl-NL" sz="2000" spc="-1" strike="noStrike">
                <a:solidFill>
                  <a:srgbClr val="262626"/>
                </a:solidFill>
                <a:latin typeface="Arial"/>
              </a:rPr>
              <a:t>(persoonlijke inbreng toerus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Samen eten</a:t>
            </a:r>
            <a:r>
              <a:rPr b="0" lang="nl-NL" sz="2000" spc="-1" strike="noStrike">
                <a:solidFill>
                  <a:srgbClr val="262626"/>
                </a:solidFill>
                <a:latin typeface="Arial"/>
              </a:rPr>
              <a:t> (als echtpaar samen aan de s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Beschikbaar en betrouwb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Afbeelding 3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296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262626"/>
                </a:solidFill>
                <a:latin typeface="AntitledDemi"/>
              </a:rPr>
              <a:t>Hart voor je huwelijk</a:t>
            </a:r>
            <a:endParaRPr b="0" lang="en-US" sz="70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143080" y="2857680"/>
            <a:ext cx="52149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5e2206"/>
                </a:solidFill>
                <a:latin typeface="AntitledDemi"/>
              </a:rPr>
              <a:t>Avond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5e2206"/>
                </a:solidFill>
                <a:latin typeface="AntitledDemi"/>
              </a:rPr>
              <a:t>Terug naar de ba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Afbeelding 6" descr="roodschild_los.jpg"/>
          <p:cNvPicPr/>
          <p:nvPr/>
        </p:nvPicPr>
        <p:blipFill>
          <a:blip r:embed="rId1"/>
          <a:srcRect l="0" t="26622" r="0" b="38371"/>
          <a:stretch/>
        </p:blipFill>
        <p:spPr>
          <a:xfrm rot="8788800">
            <a:off x="-1126800" y="-271440"/>
            <a:ext cx="3121200" cy="1771560"/>
          </a:xfrm>
          <a:prstGeom prst="rect">
            <a:avLst/>
          </a:prstGeom>
          <a:ln w="0">
            <a:noFill/>
          </a:ln>
        </p:spPr>
      </p:pic>
      <p:pic>
        <p:nvPicPr>
          <p:cNvPr id="144" name="Afbeelding 5" descr="Logo HGJB transparant.png"/>
          <p:cNvPicPr/>
          <p:nvPr/>
        </p:nvPicPr>
        <p:blipFill>
          <a:blip r:embed="rId2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81388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62626"/>
                </a:solidFill>
                <a:latin typeface="AntitledDemi"/>
              </a:rPr>
              <a:t>Terug naar de basis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42960" y="1428840"/>
            <a:ext cx="6400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Het huwelijk, wat is h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62626"/>
                </a:solidFill>
                <a:latin typeface="Arial"/>
              </a:rPr>
              <a:t>Trouwtek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62626"/>
                </a:solidFill>
                <a:latin typeface="Arial"/>
              </a:rPr>
              <a:t>Huwelijk komt van G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62626"/>
                </a:solidFill>
                <a:latin typeface="Arial"/>
              </a:rPr>
              <a:t>Huwelijk, een ver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Jullie huwelijk, hoe gaat he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En nu de prakt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Jij en je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Afbeelding 5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AntitledDemi"/>
              </a:rPr>
              <a:t>Het huwelijk, wat is het?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71320" y="142884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62626"/>
                </a:solidFill>
                <a:latin typeface="Arial"/>
              </a:rPr>
              <a:t>Trouwtek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Welke tek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Arial"/>
              </a:rPr>
              <a:t>Wat sprak / spreekt je a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kstvak 3"/>
          <p:cNvSpPr/>
          <p:nvPr/>
        </p:nvSpPr>
        <p:spPr>
          <a:xfrm>
            <a:off x="428760" y="595800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tledDemi"/>
              </a:rPr>
              <a:t>Avond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Afbeelding 4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AntitledDemi"/>
              </a:rPr>
              <a:t>Het huwelijk, wat is het? 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99680" y="15717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Arial"/>
              </a:rPr>
              <a:t>Het huwelijk komt van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Van bov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Verl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Aank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ot één vlees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kstvak 3"/>
          <p:cNvSpPr/>
          <p:nvPr/>
        </p:nvSpPr>
        <p:spPr>
          <a:xfrm>
            <a:off x="428760" y="595800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tledDemi"/>
              </a:rPr>
              <a:t>Avond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Afbeelding 4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AntitledDemi"/>
              </a:rPr>
              <a:t>Het huwelijk, wat is het?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99680" y="15717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Arial"/>
              </a:rPr>
              <a:t>Het huwelijk, een ver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God en Zijn volk als voorbe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iefde is een beslu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hristus en Zijn geme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en drievoudig sn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kstvak 3"/>
          <p:cNvSpPr/>
          <p:nvPr/>
        </p:nvSpPr>
        <p:spPr>
          <a:xfrm>
            <a:off x="428760" y="595800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tledDemi"/>
              </a:rPr>
              <a:t>Avond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Afbeelding 4" descr="Logo HGJB transparant.png"/>
          <p:cNvPicPr/>
          <p:nvPr/>
        </p:nvPicPr>
        <p:blipFill>
          <a:blip r:embed="rId1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AntitledDemi"/>
              </a:rPr>
              <a:t>Het huwelijk, hoe gaat het?</a:t>
            </a:r>
            <a:endParaRPr b="0" lang="en-US" sz="4400" spc="-1" strike="noStrike">
              <a:solidFill>
                <a:srgbClr val="000000"/>
              </a:solidFill>
              <a:latin typeface="AntitledDem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28400" y="157140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amen de balans op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pdrach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MCj04398310000[1]"/>
          <p:cNvPicPr/>
          <p:nvPr/>
        </p:nvPicPr>
        <p:blipFill>
          <a:blip r:embed="rId1"/>
          <a:stretch/>
        </p:blipFill>
        <p:spPr>
          <a:xfrm>
            <a:off x="6997680" y="3429000"/>
            <a:ext cx="1685880" cy="16858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3851280" y="2421000"/>
            <a:ext cx="252108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 Onvoldoe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 Voldoende</a:t>
            </a:r>
            <a:r>
              <a:rPr b="0" lang="nl-N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 G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kstvak 5"/>
          <p:cNvSpPr/>
          <p:nvPr/>
        </p:nvSpPr>
        <p:spPr>
          <a:xfrm>
            <a:off x="428760" y="595800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titledDemi"/>
              </a:rPr>
              <a:t>Avond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Afbeelding 6" descr="Logo HGJB transparant.png"/>
          <p:cNvPicPr/>
          <p:nvPr/>
        </p:nvPicPr>
        <p:blipFill>
          <a:blip r:embed="rId2"/>
          <a:stretch/>
        </p:blipFill>
        <p:spPr>
          <a:xfrm>
            <a:off x="8317080" y="6091200"/>
            <a:ext cx="7333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8:58:09Z</dcterms:created>
  <dc:creator>njansen</dc:creator>
  <dc:description/>
  <dc:language>en-US</dc:language>
  <cp:lastModifiedBy>Kees</cp:lastModifiedBy>
  <cp:lastPrinted>2012-08-27T19:27:52Z</cp:lastPrinted>
  <dcterms:modified xsi:type="dcterms:W3CDTF">2015-01-06T11:41:24Z</dcterms:modified>
  <cp:revision>55</cp:revision>
  <dc:subject/>
  <dc:title>Hart voor je huwelijk</dc:title>
</cp:coreProperties>
</file>